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650-D375-486F-BAD1-5BE8B574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55B-E493-4CCF-B6A9-15D6A3C0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8AF-919E-40F0-ABE3-57EE739D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AB0-DAF2-4B46-B155-DFE82657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EB3-BC73-4BE7-852F-2C06F39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46E-FCE6-470C-87CB-2EC0565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B23-8A0F-4EF1-BABF-0A00F037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4C4-8999-4A4D-A1E5-B3891BC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1D4-6007-4C6F-909A-0891A843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AE5-5A86-4EAC-8DFD-C6BD0C0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E65-4C1D-4472-8AF9-FFC9B8B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9DD-A69E-4E51-8F50-32296DC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D0706-6B63-4DB3-82FF-7D7BF014B5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0-13T00:47:32Z</dcterms:created>
  <dc:creator/>
  <dc:description/>
  <dc:language>en-US</dc:language>
  <cp:lastModifiedBy/>
  <cp:revision>0</cp:revision>
  <dc:subject/>
  <dc:title/>
</cp:coreProperties>
</file>